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2AAF-C2A9-4F15-A8F8-AD4A2416E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8669-0654-4F8B-B314-2C436D7B9F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D915-F754-4218-AFB0-9535FE3976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BD28-59A5-4FF7-A7D3-000A001AD2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B0C7-5DAC-4DE3-8530-3EF4109B07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DC63-17C8-4964-8BE7-AE59AA90C6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388-D186-46A6-B675-127C7E71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8B4-941E-4E4C-B959-4B54A6A3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3FB-3F5D-4F7E-934C-8CD695AE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31A-22D0-4169-B3BA-A3159341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A3DE-C08E-449C-84EC-23F54830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C1A8-4327-4733-99AE-C62E1611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9D29-8D8D-4AA4-8E7E-447E45AF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7EDA-9BC6-4EC6-88E4-88AF843E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C748-3902-4DF0-9150-08945E74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E0C0-1454-4C06-8F7A-E3DABC40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4CDF-C152-474E-8D78-1436888A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475-5018-4DE4-B825-F5EAC139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A7E7-5B12-4262-B904-CCF2729A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187E-F4AA-410F-B6CC-F3EAEEB3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1E1D-FEF4-48EC-9C30-8FC1BB1E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1ACC-9459-4BB3-AE63-5849A912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8C43-9116-45BB-868E-16F87B8E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2F50-9782-4564-A776-99360B0C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B7D-EA83-4043-A4D9-35228013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0EB-F5DB-4C28-93C3-D7CC810A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EB2-0FDA-4264-BA48-EBC29926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F3D-A029-4D0C-A860-5704EAE5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6D5-3D69-4EEE-B1C1-4A6C8C9F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317-CDA1-4A73-A856-DBE67CE6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D3C4-B3E5-495B-B9BD-6F8F4368CC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0ED7-6F0E-4B3E-90C6-EB9445C9A8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HILOSOPHICAL FOUNDATI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ITERION FOR PHILOSO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ENCY WITH F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ENCY WITH EXPER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ENCY WITH OTHER BEL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RICULUM CONCENTRA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QUISITION OF KNOWLE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S AND VAL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COGNIZING ACADEMIC EXCELLE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 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LAY “ACADEMIC SCHOLAR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GNIZE IMPR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WARD TOP SCHOL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ADEMIC ASSEMBL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RICHMENT OPPORTUN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ER TU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ADEMIC CL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 BUSINESS AND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E COMPET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 STUDY CL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6:58:40Z</dcterms:created>
  <dc:creator>allen d Eury</dc:creator>
  <dc:description/>
  <dc:language>en-US</dc:language>
  <cp:lastModifiedBy>User</cp:lastModifiedBy>
  <dcterms:modified xsi:type="dcterms:W3CDTF">2012-08-22T18:07:56Z</dcterms:modified>
  <cp:revision>5</cp:revision>
  <dc:subject/>
  <dc:title>Slide 1</dc:title>
</cp:coreProperties>
</file>